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D21-205D-43CF-B83C-9256C5CF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D90-F8CD-49E2-B849-68838DEA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0BFBC-402F-4B8A-AFB7-9D7BB9D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89390-ED32-4064-9B6A-FDA8CE38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9F110-0B20-4F39-81AE-5C6BF836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4DFF6-88D0-4028-816C-CA7B0F57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5A1DE-4F00-437F-AA08-2AAFDB27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08541-A34C-44DD-A288-9893113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A4DA7-0447-4798-85DA-241B03E1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2E3D0-BCC7-4DED-9C54-D648A58D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2B12D-66D6-4B10-98C4-0A1C3667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56536-E80F-45E8-8143-FC2D69A1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935-626B-4294-ADFA-964C9850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09636-57A8-465A-B65B-36030F1F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82D72-E473-4C73-82BD-8C0F952D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4C292-461D-44FF-A3D0-482CBA3B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17C7B-294B-44CA-97FE-FC594D54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1AD58-F3FA-4CBC-BAFF-B760E63C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A1357-56D4-49DD-90DF-1B111EAD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49F9F-809F-479B-AA8D-60C084E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912D2-DE11-470B-8695-3836364E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27E55-CB3D-4EB3-9ED9-08487DBC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BB1E3-CBEA-49EF-BC61-8177B4A6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188-6ECC-4569-8235-1500BEDF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82A65-515C-4E94-B0D5-3B3F8F1D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73B6-3A9C-4CD5-AE00-6FAEEB5D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3DBF-4BC5-468A-913D-76C82833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C2FB-CB15-4C2B-8A4D-825DE5F3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9799-2D07-41F4-8B63-BC20376F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44B8-2E62-43D8-9924-1D95817A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3A94-DA70-440D-908E-920826AC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D041-5761-4660-AB20-6F712486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81D-8DF6-4B30-B1CA-53FF9779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1BAE-4AE1-498B-9A3B-224558BC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312C-5278-49FE-9B14-B635A036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ECDA-D892-429B-8670-A8A54754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31AB-BA8B-4BA3-A02E-023EB2F8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C1FE-A478-40BF-865A-5A913AFE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FD5E-992B-47F5-841D-E4909880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BEC8-DB30-4CE3-A42E-48F15803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1114-2189-43EF-AEF3-99B7CAAB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7F62-CDB9-49A8-B006-B45207D9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E0716-9820-4292-AED6-E4F804B9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7FD-302D-4B06-8787-FE1194B9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0B2F-85B6-4512-A8AB-3C384688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9D5E-3282-4DD6-BC0F-CBBE52ED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EFFC-89DF-4BC2-9114-8637849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B719-EFF6-4F6B-AB85-0D520705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4EF8-400D-4F21-93D8-CFE02D9F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82C3-1B3F-4EAD-9683-336A8FA5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CAEA-6751-461B-B84E-40570765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D9B8-3A6E-4098-8502-54EF5C53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880E6-9D28-4677-9B28-A2D56C8C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B719C-4CDD-4FA3-9354-2EC2EFB5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A89-0625-4587-9DC8-5662DB80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90759-CA57-4122-BE8C-681A6288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442E0-235D-4E44-A6C1-24A0BA82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8B0F9-9B1F-443B-BDD5-70C35A04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9F959-1DE0-47AD-ABDC-A219D30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59207-BD25-4901-87F3-078BF022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9F24-99BF-4DFD-B8D2-E553D917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3614-6FEB-4BED-9BCD-881F5120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CBE8-E27F-4A63-992B-F651AEAB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70167-F74F-4C1F-9133-B6BF64DB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4DAE-21F7-4858-962E-F1322240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777-62DF-4599-AEBA-6E7E00D1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29E66-D68B-4C3C-A1B7-A18DA8A3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56BB-E430-4FF0-8E34-FC5F2B7A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16408-58AA-4CDF-B512-E2677CE1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686CF-6F8A-4B3C-93AB-FDB391DE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BAF54-3497-4A72-A1D7-A123C98B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7886F-52EC-4F51-B1D9-30B6412F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40DA2-913D-48F3-AD29-43C90F6C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0E402-1620-46C8-80A7-8DCAEE7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96C1B-7639-4C86-84AB-711244BA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1E5AC-EED0-42CF-B59C-33E4BE86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156-7D3C-4B7B-9160-4459A04D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1FC7-3EF3-4CDB-89EC-3F5F5B0C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951F9-7132-49C6-B88B-1B318B58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F0439-AC2C-454E-92FA-2868153A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17CB4-B118-4767-AEC2-AC0A985B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8F99C-8D9D-4D3D-8B7A-F452DBDE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C8726-F45E-4324-9594-F637B098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0F9A-9DF1-4821-BDF3-F2EA30AB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283D4-7F68-4D72-AD3E-A99B96E6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72E32-4EB2-4605-B812-50A46BA2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FDCCF-2417-425E-AB70-0F75CF97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88D-8DD2-4689-BE6D-D1FC8964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2DFC9-0823-43BD-BE3F-BA222DA1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A80D4-118D-435F-9492-CCF6D87C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A6C2-9725-47B1-B427-3423802D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F08D0-2175-40CA-9795-4470E337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9415-486A-4D5D-A526-172E6280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B013E-46A1-4AF1-A845-3C0A59A6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B7738-869F-44D4-B4A2-2B757A39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ED93C-AF10-4F7D-912B-7949C0E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AE045-6F7D-464A-AC4B-30035971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B18BB-C5CB-4AD5-853F-929F7BF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B30-0033-4279-8242-7F63E68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6B94C-BE61-4EB3-8C2C-E58CDC4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D62CE-7E0F-4EAB-BB6C-4385B137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7D7F7-22E3-4E18-9D03-A1F51A6E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77D23-5FD1-48D2-960C-4C0671F8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A29D6-161B-478B-92E0-CE5E83C8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FAC42-EABE-4D45-B7B4-A072DF11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85A91-DF9E-49E2-9938-F683F9E2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C58E-E0A8-4A39-9EBC-A5946E0C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7ADF5-1076-4FEE-B94E-FA075D56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D4A27-A5E7-468F-81ED-84207165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983-D6FF-43E1-ABEF-68E5768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6A16F-D291-415A-B922-A3E53DFF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7A5F6-B371-4321-A600-6595FDC0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D122E-3E46-4D9B-9A78-80D7DAB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A2ECE-741E-4A72-9508-F8641549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9AE59-E42C-4A5E-8F72-295B029F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1EFBD-6EBC-474E-B70D-A8D10F9F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188D9-CE79-4FC9-A716-3CE40D77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EADC6-C429-431E-BC5C-9528A04E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F5693-4A11-47B5-9183-F93AF89F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BF260-97C3-4E49-975F-A71EE339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21ED-BE5A-4416-A7E9-909E085FD37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AA78-4F2D-45EB-817B-7BBA1D902D8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526E-C4E8-441C-890D-C0226958628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65D8-189B-4CC5-B22A-F68E8E9BA42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DDBF-79A2-43D1-B215-A875AEDFBA6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0AAF-2E44-4674-9B58-9ADC929F6B9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3F04-56F6-4C4E-83F1-1928BD24886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B80C-1087-4F11-90B7-DECF0F8C1A7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C98C-8033-417A-BECF-18E5C2FABFF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CBB4-067F-4BAE-9812-F84D6C71516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4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저 분은 누구입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모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Find out the English names of the fruits on p.44 and match them with the corresponding Korean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분은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아내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집사람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 아이는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딸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딸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entleman (lad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ughter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this~/that~/that~; pre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방에서 기다리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 사람은 아주 친절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책을 읽고 싶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o; interrogative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를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기다립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의 가방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누가 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구가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가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우리 학교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 집에 놀러오세요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 the ~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옷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oman (&lt;-&gt;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집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lassro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4T15:59:38Z</dcterms:modified>
  <cp:revision>86</cp:revision>
  <dc:subject/>
  <dc:title>KOREAN LANGUAGE</dc:title>
</cp:coreProperties>
</file>